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5.jpeg" ContentType="image/jpeg"/>
  <Override PartName="/ppt/media/image43.png" ContentType="image/png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50.png" ContentType="image/pn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5.jpeg" ContentType="image/jpeg"/>
  <Override PartName="/ppt/media/image44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54.jpeg" ContentType="image/jpeg"/>
  <Override PartName="/ppt/media/image33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3.jpeg" ContentType="image/jpeg"/>
  <Override PartName="/ppt/media/image85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22.jpeg" ContentType="image/jpeg"/>
  <Override PartName="/ppt/media/image75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10.png" ContentType="image/png"/>
  <Override PartName="/ppt/media/image35.png" ContentType="image/png"/>
  <Override PartName="/ppt/media/image21.jpeg" ContentType="image/jpeg"/>
  <Override PartName="/ppt/media/image65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70.png" ContentType="image/png"/>
  <Override PartName="/ppt/media/image91.jpeg" ContentType="image/jpeg"/>
  <Override PartName="/ppt/media/image74.png" ContentType="image/png"/>
  <Override PartName="/ppt/media/image60.png" ContentType="image/png"/>
  <Override PartName="/ppt/media/image104.png" ContentType="image/png"/>
  <Override PartName="/ppt/media/image97.png" ContentType="image/png"/>
  <Override PartName="/ppt/media/image76.jpeg" ContentType="image/jpeg"/>
  <Override PartName="/ppt/media/image102.png" ContentType="image/png"/>
  <Override PartName="/ppt/media/image12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77.png" ContentType="image/png"/>
  <Override PartName="/ppt/media/image71.jpeg" ContentType="image/jpeg"/>
  <Override PartName="/ppt/media/image73.png" ContentType="image/png"/>
  <Override PartName="/ppt/media/image87.jpeg" ContentType="image/jpeg"/>
  <Override PartName="/ppt/media/image64.png" ContentType="image/png"/>
  <Override PartName="/ppt/media/image99.png" ContentType="image/png"/>
  <Override PartName="/ppt/media/image62.png" ContentType="image/png"/>
  <Override PartName="/ppt/media/image100.png" ContentType="image/png"/>
  <Override PartName="/ppt/media/image28.png" ContentType="image/png"/>
  <Override PartName="/ppt/media/image93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79.png" ContentType="image/png"/>
  <Override PartName="/ppt/media/image20.png" ContentType="image/png"/>
  <Override PartName="/ppt/media/image57.png" ContentType="image/png"/>
  <Override PartName="/ppt/media/image49.jpeg" ContentType="image/jpeg"/>
  <Override PartName="/ppt/media/image88.png" ContentType="image/png"/>
  <Override PartName="/ppt/media/image95.png" ContentType="image/png"/>
  <Override PartName="/ppt/media/image24.jpeg" ContentType="image/jpeg"/>
  <Override PartName="/ppt/media/image59.png" ContentType="image/png"/>
  <Override PartName="/ppt/media/image66.jpeg" ContentType="image/jpeg"/>
  <Override PartName="/ppt/media/image31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72.jpeg" ContentType="image/jpe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17.png" ContentType="image/png"/>
  <Override PartName="/ppt/media/image82.png" ContentType="image/png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1930-BC7A-4452-9B5B-CFFDF7A2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3ED9-5050-44AD-A4B0-D9357FBB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D46-BBEF-4B86-9E31-C8211DA7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4562-61D8-4930-AD38-1C1F8ABA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8A6C-44C4-4D6E-8F78-9DE41277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0CDC-4999-4E04-B720-C66AC4B6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85A6-C223-4888-998B-9FE8746D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BA9F-8AEB-43CE-B556-DBB493B7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B6C7-8A23-497D-9961-3EF721D8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33A5-A3A4-4241-B63A-5D0711DD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EE37-144A-4006-A7B6-A3601124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BA3-E4AE-421E-81F1-53F61382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7DAE-28D0-4D82-806D-7B3D7A51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6A50-5558-4741-9F8F-DF0514D5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93CD-0345-4B50-A21B-F7DF8A09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C64E-3706-4475-A861-1061633B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CDA8-8AA5-45B5-ADC3-5E634BF7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8E8-C8BF-424F-8861-838B4A20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FE8-E9D0-4FE1-8C16-0BB571FF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C643-6512-4E26-AEEC-F55D6D94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FB5-FD91-4867-8540-3039F526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D0B-96BD-45F8-A74A-919077FE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5CA-305B-4D2D-9540-41E965AE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631-E545-4B2F-BA59-449DF3C8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D4F2-8E22-4D56-88A2-7496746090FC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BFA4-5E6D-41AE-A476-14C7FF6EF456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image" Target="../media/image40.png"/><Relationship Id="rId22" Type="http://schemas.openxmlformats.org/officeDocument/2006/relationships/image" Target="../media/image41.png"/><Relationship Id="rId23" Type="http://schemas.openxmlformats.org/officeDocument/2006/relationships/image" Target="../media/image42.png"/><Relationship Id="rId24" Type="http://schemas.openxmlformats.org/officeDocument/2006/relationships/image" Target="../media/image43.png"/><Relationship Id="rId25" Type="http://schemas.openxmlformats.org/officeDocument/2006/relationships/image" Target="../media/image44.png"/><Relationship Id="rId2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51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2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53.png"/><Relationship Id="rId14" Type="http://schemas.openxmlformats.org/officeDocument/2006/relationships/image" Target="../media/image54.jpeg"/><Relationship Id="rId15" Type="http://schemas.openxmlformats.org/officeDocument/2006/relationships/image" Target="../media/image55.jpeg"/><Relationship Id="rId16" Type="http://schemas.openxmlformats.org/officeDocument/2006/relationships/image" Target="../media/image56.jpeg"/><Relationship Id="rId1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60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61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62.png"/><Relationship Id="rId16" Type="http://schemas.openxmlformats.org/officeDocument/2006/relationships/image" Target="../media/image24.jpeg"/><Relationship Id="rId17" Type="http://schemas.openxmlformats.org/officeDocument/2006/relationships/image" Target="../media/image49.jpeg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63.png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64.png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65.png"/><Relationship Id="rId24" Type="http://schemas.openxmlformats.org/officeDocument/2006/relationships/image" Target="../media/image66.jpeg"/><Relationship Id="rId25" Type="http://schemas.openxmlformats.org/officeDocument/2006/relationships/image" Target="../media/image67.jpeg"/><Relationship Id="rId26" Type="http://schemas.openxmlformats.org/officeDocument/2006/relationships/oleObject" Target="../embeddings/oleObject10.bin"/><Relationship Id="rId27" Type="http://schemas.openxmlformats.org/officeDocument/2006/relationships/image" Target="../media/image68.png"/><Relationship Id="rId28" Type="http://schemas.openxmlformats.org/officeDocument/2006/relationships/oleObject" Target="../embeddings/oleObject11.bin"/><Relationship Id="rId29" Type="http://schemas.openxmlformats.org/officeDocument/2006/relationships/image" Target="../media/image69.png"/><Relationship Id="rId30" Type="http://schemas.openxmlformats.org/officeDocument/2006/relationships/oleObject" Target="../embeddings/oleObject12.bin"/><Relationship Id="rId31" Type="http://schemas.openxmlformats.org/officeDocument/2006/relationships/image" Target="../media/image70.png"/><Relationship Id="rId32" Type="http://schemas.openxmlformats.org/officeDocument/2006/relationships/image" Target="../media/image71.jpeg"/><Relationship Id="rId33" Type="http://schemas.openxmlformats.org/officeDocument/2006/relationships/image" Target="../media/image72.jpeg"/><Relationship Id="rId34" Type="http://schemas.openxmlformats.org/officeDocument/2006/relationships/oleObject" Target="../embeddings/oleObject13.bin"/><Relationship Id="rId35" Type="http://schemas.openxmlformats.org/officeDocument/2006/relationships/image" Target="../media/image73.png"/><Relationship Id="rId36" Type="http://schemas.openxmlformats.org/officeDocument/2006/relationships/oleObject" Target="../embeddings/oleObject14.bin"/><Relationship Id="rId37" Type="http://schemas.openxmlformats.org/officeDocument/2006/relationships/image" Target="../media/image74.png"/><Relationship Id="rId38" Type="http://schemas.openxmlformats.org/officeDocument/2006/relationships/oleObject" Target="../embeddings/oleObject15.bin"/><Relationship Id="rId39" Type="http://schemas.openxmlformats.org/officeDocument/2006/relationships/image" Target="../media/image75.png"/><Relationship Id="rId40" Type="http://schemas.openxmlformats.org/officeDocument/2006/relationships/image" Target="../media/image76.jpeg"/><Relationship Id="rId4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7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8.png"/><Relationship Id="rId8" Type="http://schemas.openxmlformats.org/officeDocument/2006/relationships/image" Target="../media/image24.jpeg"/><Relationship Id="rId9" Type="http://schemas.openxmlformats.org/officeDocument/2006/relationships/image" Target="../media/image49.jpe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79.png"/><Relationship Id="rId12" Type="http://schemas.openxmlformats.org/officeDocument/2006/relationships/image" Target="../media/image66.jpeg"/><Relationship Id="rId13" Type="http://schemas.openxmlformats.org/officeDocument/2006/relationships/image" Target="../media/image67.jpe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80.png"/><Relationship Id="rId16" Type="http://schemas.openxmlformats.org/officeDocument/2006/relationships/image" Target="../media/image71.jpeg"/><Relationship Id="rId17" Type="http://schemas.openxmlformats.org/officeDocument/2006/relationships/image" Target="../media/image72.jpeg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81.png"/><Relationship Id="rId20" Type="http://schemas.openxmlformats.org/officeDocument/2006/relationships/image" Target="../media/image76.jpeg"/><Relationship Id="rId2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2.png"/><Relationship Id="rId4" Type="http://schemas.openxmlformats.org/officeDocument/2006/relationships/image" Target="../media/image48.jpeg"/><Relationship Id="rId5" Type="http://schemas.openxmlformats.org/officeDocument/2006/relationships/image" Target="../media/image24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3.png"/><Relationship Id="rId8" Type="http://schemas.openxmlformats.org/officeDocument/2006/relationships/image" Target="../media/image23.jpeg"/><Relationship Id="rId9" Type="http://schemas.openxmlformats.org/officeDocument/2006/relationships/image" Target="../media/image66.jpe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84.png"/><Relationship Id="rId12" Type="http://schemas.openxmlformats.org/officeDocument/2006/relationships/image" Target="../media/image49.jpeg"/><Relationship Id="rId13" Type="http://schemas.openxmlformats.org/officeDocument/2006/relationships/image" Target="../media/image71.jpe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85.png"/><Relationship Id="rId16" Type="http://schemas.openxmlformats.org/officeDocument/2006/relationships/image" Target="../media/image67.jpeg"/><Relationship Id="rId17" Type="http://schemas.openxmlformats.org/officeDocument/2006/relationships/image" Target="../media/image76.jpeg"/><Relationship Id="rId18" Type="http://schemas.openxmlformats.org/officeDocument/2006/relationships/oleObject" Target="../embeddings/oleObject5.bin"/><Relationship Id="rId19" Type="http://schemas.openxmlformats.org/officeDocument/2006/relationships/image" Target="../media/image86.png"/><Relationship Id="rId20" Type="http://schemas.openxmlformats.org/officeDocument/2006/relationships/image" Target="../media/image72.jpe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91.jpeg"/><Relationship Id="rId6" Type="http://schemas.openxmlformats.org/officeDocument/2006/relationships/image" Target="../media/image92.png"/><Relationship Id="rId7" Type="http://schemas.openxmlformats.org/officeDocument/2006/relationships/image" Target="../media/image93.png"/><Relationship Id="rId8" Type="http://schemas.openxmlformats.org/officeDocument/2006/relationships/image" Target="../media/image94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95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96.png"/><Relationship Id="rId6" Type="http://schemas.openxmlformats.org/officeDocument/2006/relationships/image" Target="../media/image24.jpeg"/><Relationship Id="rId7" Type="http://schemas.openxmlformats.org/officeDocument/2006/relationships/image" Target="../media/image49.jpeg"/><Relationship Id="rId8" Type="http://schemas.openxmlformats.org/officeDocument/2006/relationships/image" Target="../media/image97.png"/><Relationship Id="rId9" Type="http://schemas.openxmlformats.org/officeDocument/2006/relationships/image" Target="../media/image66.jpeg"/><Relationship Id="rId10" Type="http://schemas.openxmlformats.org/officeDocument/2006/relationships/image" Target="../media/image67.jpeg"/><Relationship Id="rId11" Type="http://schemas.openxmlformats.org/officeDocument/2006/relationships/image" Target="../media/image98.png"/><Relationship Id="rId12" Type="http://schemas.openxmlformats.org/officeDocument/2006/relationships/image" Target="../media/image71.jpeg"/><Relationship Id="rId13" Type="http://schemas.openxmlformats.org/officeDocument/2006/relationships/image" Target="../media/image72.jpeg"/><Relationship Id="rId14" Type="http://schemas.openxmlformats.org/officeDocument/2006/relationships/image" Target="../media/image99.png"/><Relationship Id="rId15" Type="http://schemas.openxmlformats.org/officeDocument/2006/relationships/image" Target="../media/image76.jpeg"/><Relationship Id="rId1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3.jpeg"/><Relationship Id="rId3" Type="http://schemas.openxmlformats.org/officeDocument/2006/relationships/image" Target="../media/image49.jpeg"/><Relationship Id="rId4" Type="http://schemas.openxmlformats.org/officeDocument/2006/relationships/image" Target="../media/image67.jpeg"/><Relationship Id="rId5" Type="http://schemas.openxmlformats.org/officeDocument/2006/relationships/image" Target="../media/image72.jpeg"/><Relationship Id="rId6" Type="http://schemas.openxmlformats.org/officeDocument/2006/relationships/image" Target="../media/image100.png"/><Relationship Id="rId7" Type="http://schemas.openxmlformats.org/officeDocument/2006/relationships/image" Target="../media/image101.png"/><Relationship Id="rId8" Type="http://schemas.openxmlformats.org/officeDocument/2006/relationships/image" Target="../media/image102.png"/><Relationship Id="rId9" Type="http://schemas.openxmlformats.org/officeDocument/2006/relationships/image" Target="../media/image103.png"/><Relationship Id="rId10" Type="http://schemas.openxmlformats.org/officeDocument/2006/relationships/image" Target="../media/image104.png"/><Relationship Id="rId11" Type="http://schemas.openxmlformats.org/officeDocument/2006/relationships/image" Target="../media/image22.jpeg"/><Relationship Id="rId12" Type="http://schemas.openxmlformats.org/officeDocument/2006/relationships/image" Target="../media/image24.jpeg"/><Relationship Id="rId13" Type="http://schemas.openxmlformats.org/officeDocument/2006/relationships/image" Target="../media/image66.jpeg"/><Relationship Id="rId14" Type="http://schemas.openxmlformats.org/officeDocument/2006/relationships/image" Target="../media/image71.jpeg"/><Relationship Id="rId15" Type="http://schemas.openxmlformats.org/officeDocument/2006/relationships/image" Target="../media/image76.jpeg"/><Relationship Id="rId1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Final Year Project Presentation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--- Magic Paint Fac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upervisor Name: Korris 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-examiner:        Simon S.F. 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tudent Name:      LI Deqing, Yu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tudent ID:            03994486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ging Simulation Modu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ural net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rtificial neuron system which simulates biological neur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p the input image onto a pre-assigned output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st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ed the converged network with unseen input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096160" y="1727640"/>
            <a:ext cx="3429000" cy="4358880"/>
            <a:chOff x="5096160" y="1727640"/>
            <a:chExt cx="3429000" cy="4358880"/>
          </a:xfrm>
        </p:grpSpPr>
        <p:sp>
          <p:nvSpPr>
            <p:cNvPr id="137" name=""/>
            <p:cNvSpPr/>
            <p:nvPr/>
          </p:nvSpPr>
          <p:spPr>
            <a:xfrm>
              <a:off x="5667120" y="3015360"/>
              <a:ext cx="228600" cy="1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38800" y="3015360"/>
              <a:ext cx="228600" cy="1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96160" y="3808080"/>
              <a:ext cx="228240" cy="19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38520" y="3808080"/>
              <a:ext cx="228240" cy="19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81960" y="3808080"/>
              <a:ext cx="227520" cy="19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24320" y="3808080"/>
              <a:ext cx="228240" cy="19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10840" y="3808080"/>
              <a:ext cx="228240" cy="19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81960" y="4600080"/>
              <a:ext cx="227520" cy="19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38520" y="4600080"/>
              <a:ext cx="228240" cy="19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8120" y="3808080"/>
              <a:ext cx="226800" cy="19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67400" y="4600080"/>
              <a:ext cx="227520" cy="19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24320" y="4600080"/>
              <a:ext cx="229320" cy="19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>
              <a:stCxn id="137" idx="4"/>
              <a:endCxn id="139" idx="0"/>
            </p:cNvCxnSpPr>
            <p:nvPr/>
          </p:nvCxnSpPr>
          <p:spPr>
            <a:xfrm flipH="1">
              <a:off x="5209560" y="3215160"/>
              <a:ext cx="572400" cy="59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" name=""/>
            <p:cNvCxnSpPr>
              <a:stCxn id="137" idx="4"/>
              <a:endCxn id="140" idx="0"/>
            </p:cNvCxnSpPr>
            <p:nvPr/>
          </p:nvCxnSpPr>
          <p:spPr>
            <a:xfrm flipH="1">
              <a:off x="5553000" y="3215160"/>
              <a:ext cx="228960" cy="59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" name=""/>
            <p:cNvCxnSpPr>
              <a:stCxn id="137" idx="4"/>
              <a:endCxn id="141" idx="0"/>
            </p:cNvCxnSpPr>
            <p:nvPr/>
          </p:nvCxnSpPr>
          <p:spPr>
            <a:xfrm>
              <a:off x="5781960" y="3215160"/>
              <a:ext cx="114480" cy="59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stCxn id="137" idx="4"/>
              <a:endCxn id="142" idx="0"/>
            </p:cNvCxnSpPr>
            <p:nvPr/>
          </p:nvCxnSpPr>
          <p:spPr>
            <a:xfrm>
              <a:off x="5781600" y="3215160"/>
              <a:ext cx="457560" cy="59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37" idx="4"/>
              <a:endCxn id="146" idx="0"/>
            </p:cNvCxnSpPr>
            <p:nvPr/>
          </p:nvCxnSpPr>
          <p:spPr>
            <a:xfrm>
              <a:off x="5781960" y="3215160"/>
              <a:ext cx="799920" cy="59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37" idx="4"/>
              <a:endCxn id="143" idx="0"/>
            </p:cNvCxnSpPr>
            <p:nvPr/>
          </p:nvCxnSpPr>
          <p:spPr>
            <a:xfrm>
              <a:off x="5781960" y="3215160"/>
              <a:ext cx="1144080" cy="59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38" idx="4"/>
              <a:endCxn id="143" idx="0"/>
            </p:cNvCxnSpPr>
            <p:nvPr/>
          </p:nvCxnSpPr>
          <p:spPr>
            <a:xfrm>
              <a:off x="6352920" y="3215160"/>
              <a:ext cx="573120" cy="59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>
              <a:stCxn id="138" idx="4"/>
              <a:endCxn id="146" idx="0"/>
            </p:cNvCxnSpPr>
            <p:nvPr/>
          </p:nvCxnSpPr>
          <p:spPr>
            <a:xfrm>
              <a:off x="6352920" y="3215160"/>
              <a:ext cx="228960" cy="59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" name=""/>
            <p:cNvCxnSpPr>
              <a:stCxn id="138" idx="4"/>
              <a:endCxn id="142" idx="0"/>
            </p:cNvCxnSpPr>
            <p:nvPr/>
          </p:nvCxnSpPr>
          <p:spPr>
            <a:xfrm flipH="1">
              <a:off x="6238440" y="3215160"/>
              <a:ext cx="114480" cy="59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"/>
            <p:cNvCxnSpPr>
              <a:stCxn id="138" idx="4"/>
              <a:endCxn id="141" idx="0"/>
            </p:cNvCxnSpPr>
            <p:nvPr/>
          </p:nvCxnSpPr>
          <p:spPr>
            <a:xfrm flipH="1">
              <a:off x="5895000" y="3215160"/>
              <a:ext cx="457560" cy="59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" name=""/>
            <p:cNvCxnSpPr>
              <a:stCxn id="138" idx="4"/>
              <a:endCxn id="140" idx="0"/>
            </p:cNvCxnSpPr>
            <p:nvPr/>
          </p:nvCxnSpPr>
          <p:spPr>
            <a:xfrm flipH="1">
              <a:off x="5553000" y="3215160"/>
              <a:ext cx="799920" cy="59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" name=""/>
            <p:cNvCxnSpPr>
              <a:stCxn id="138" idx="4"/>
              <a:endCxn id="139" idx="0"/>
            </p:cNvCxnSpPr>
            <p:nvPr/>
          </p:nvCxnSpPr>
          <p:spPr>
            <a:xfrm flipH="1">
              <a:off x="5209920" y="3215160"/>
              <a:ext cx="1143000" cy="59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"/>
            <p:cNvCxnSpPr>
              <a:stCxn id="139" idx="4"/>
              <a:endCxn id="145" idx="0"/>
            </p:cNvCxnSpPr>
            <p:nvPr/>
          </p:nvCxnSpPr>
          <p:spPr>
            <a:xfrm>
              <a:off x="5209560" y="4005360"/>
              <a:ext cx="34380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" name=""/>
            <p:cNvCxnSpPr>
              <a:stCxn id="140" idx="4"/>
              <a:endCxn id="145" idx="0"/>
            </p:cNvCxnSpPr>
            <p:nvPr/>
          </p:nvCxnSpPr>
          <p:spPr>
            <a:xfrm>
              <a:off x="5553000" y="4005360"/>
              <a:ext cx="108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"/>
            <p:cNvCxnSpPr>
              <a:stCxn id="141" idx="4"/>
              <a:endCxn id="145" idx="0"/>
            </p:cNvCxnSpPr>
            <p:nvPr/>
          </p:nvCxnSpPr>
          <p:spPr>
            <a:xfrm flipH="1">
              <a:off x="5553000" y="4005360"/>
              <a:ext cx="34272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" name=""/>
            <p:cNvCxnSpPr>
              <a:stCxn id="142" idx="4"/>
              <a:endCxn id="145" idx="0"/>
            </p:cNvCxnSpPr>
            <p:nvPr/>
          </p:nvCxnSpPr>
          <p:spPr>
            <a:xfrm flipH="1">
              <a:off x="5553000" y="4005360"/>
              <a:ext cx="68616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" name=""/>
            <p:cNvCxnSpPr>
              <a:stCxn id="146" idx="4"/>
              <a:endCxn id="145" idx="0"/>
            </p:cNvCxnSpPr>
            <p:nvPr/>
          </p:nvCxnSpPr>
          <p:spPr>
            <a:xfrm flipH="1">
              <a:off x="5552640" y="4005360"/>
              <a:ext cx="102852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" name=""/>
            <p:cNvCxnSpPr>
              <a:stCxn id="143" idx="4"/>
              <a:endCxn id="145" idx="0"/>
            </p:cNvCxnSpPr>
            <p:nvPr/>
          </p:nvCxnSpPr>
          <p:spPr>
            <a:xfrm flipH="1">
              <a:off x="5552640" y="4005360"/>
              <a:ext cx="137268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" name=""/>
            <p:cNvCxnSpPr>
              <a:stCxn id="139" idx="4"/>
              <a:endCxn id="144" idx="0"/>
            </p:cNvCxnSpPr>
            <p:nvPr/>
          </p:nvCxnSpPr>
          <p:spPr>
            <a:xfrm>
              <a:off x="5209920" y="4005360"/>
              <a:ext cx="68616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" name=""/>
            <p:cNvCxnSpPr>
              <a:stCxn id="140" idx="4"/>
              <a:endCxn id="144" idx="0"/>
            </p:cNvCxnSpPr>
            <p:nvPr/>
          </p:nvCxnSpPr>
          <p:spPr>
            <a:xfrm>
              <a:off x="5553000" y="4005360"/>
              <a:ext cx="34272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" name=""/>
            <p:cNvCxnSpPr>
              <a:stCxn id="141" idx="4"/>
              <a:endCxn id="144" idx="0"/>
            </p:cNvCxnSpPr>
            <p:nvPr/>
          </p:nvCxnSpPr>
          <p:spPr>
            <a:xfrm>
              <a:off x="5895360" y="4005360"/>
              <a:ext cx="108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" name=""/>
            <p:cNvCxnSpPr>
              <a:stCxn id="142" idx="4"/>
              <a:endCxn id="144" idx="0"/>
            </p:cNvCxnSpPr>
            <p:nvPr/>
          </p:nvCxnSpPr>
          <p:spPr>
            <a:xfrm flipH="1">
              <a:off x="5895000" y="4005360"/>
              <a:ext cx="34380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1" name=""/>
            <p:cNvCxnSpPr>
              <a:stCxn id="146" idx="4"/>
              <a:endCxn id="144" idx="0"/>
            </p:cNvCxnSpPr>
            <p:nvPr/>
          </p:nvCxnSpPr>
          <p:spPr>
            <a:xfrm flipH="1">
              <a:off x="5895360" y="4005360"/>
              <a:ext cx="68616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2" name=""/>
            <p:cNvCxnSpPr>
              <a:stCxn id="143" idx="4"/>
              <a:endCxn id="144" idx="0"/>
            </p:cNvCxnSpPr>
            <p:nvPr/>
          </p:nvCxnSpPr>
          <p:spPr>
            <a:xfrm flipH="1">
              <a:off x="5895000" y="4005360"/>
              <a:ext cx="102996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" name=""/>
            <p:cNvCxnSpPr>
              <a:stCxn id="139" idx="4"/>
              <a:endCxn id="148" idx="0"/>
            </p:cNvCxnSpPr>
            <p:nvPr/>
          </p:nvCxnSpPr>
          <p:spPr>
            <a:xfrm>
              <a:off x="5209920" y="4005360"/>
              <a:ext cx="103032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4" name=""/>
            <p:cNvCxnSpPr>
              <a:stCxn id="140" idx="4"/>
              <a:endCxn id="148" idx="0"/>
            </p:cNvCxnSpPr>
            <p:nvPr/>
          </p:nvCxnSpPr>
          <p:spPr>
            <a:xfrm>
              <a:off x="5553360" y="4005360"/>
              <a:ext cx="68688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5" name=""/>
            <p:cNvCxnSpPr>
              <a:stCxn id="141" idx="4"/>
              <a:endCxn id="148" idx="0"/>
            </p:cNvCxnSpPr>
            <p:nvPr/>
          </p:nvCxnSpPr>
          <p:spPr>
            <a:xfrm>
              <a:off x="5895360" y="4005360"/>
              <a:ext cx="34452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>
              <a:stCxn id="142" idx="4"/>
              <a:endCxn id="148" idx="0"/>
            </p:cNvCxnSpPr>
            <p:nvPr/>
          </p:nvCxnSpPr>
          <p:spPr>
            <a:xfrm>
              <a:off x="6238800" y="4005360"/>
              <a:ext cx="144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>
              <a:stCxn id="146" idx="4"/>
              <a:endCxn id="148" idx="0"/>
            </p:cNvCxnSpPr>
            <p:nvPr/>
          </p:nvCxnSpPr>
          <p:spPr>
            <a:xfrm flipH="1">
              <a:off x="6238800" y="4005360"/>
              <a:ext cx="34236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"/>
            <p:cNvCxnSpPr>
              <a:stCxn id="143" idx="4"/>
              <a:endCxn id="148" idx="0"/>
            </p:cNvCxnSpPr>
            <p:nvPr/>
          </p:nvCxnSpPr>
          <p:spPr>
            <a:xfrm flipH="1">
              <a:off x="6239160" y="4005360"/>
              <a:ext cx="68616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9" name=""/>
            <p:cNvCxnSpPr>
              <a:stCxn id="139" idx="4"/>
              <a:endCxn id="147" idx="0"/>
            </p:cNvCxnSpPr>
            <p:nvPr/>
          </p:nvCxnSpPr>
          <p:spPr>
            <a:xfrm>
              <a:off x="5209560" y="4005360"/>
              <a:ext cx="137196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0" name=""/>
            <p:cNvCxnSpPr>
              <a:stCxn id="140" idx="4"/>
              <a:endCxn id="147" idx="0"/>
            </p:cNvCxnSpPr>
            <p:nvPr/>
          </p:nvCxnSpPr>
          <p:spPr>
            <a:xfrm>
              <a:off x="5553000" y="4005360"/>
              <a:ext cx="102852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41" idx="4"/>
              <a:endCxn id="147" idx="0"/>
            </p:cNvCxnSpPr>
            <p:nvPr/>
          </p:nvCxnSpPr>
          <p:spPr>
            <a:xfrm>
              <a:off x="5895720" y="4005360"/>
              <a:ext cx="68616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42" idx="4"/>
              <a:endCxn id="147" idx="0"/>
            </p:cNvCxnSpPr>
            <p:nvPr/>
          </p:nvCxnSpPr>
          <p:spPr>
            <a:xfrm>
              <a:off x="6238440" y="4005360"/>
              <a:ext cx="34272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46" idx="4"/>
              <a:endCxn id="147" idx="0"/>
            </p:cNvCxnSpPr>
            <p:nvPr/>
          </p:nvCxnSpPr>
          <p:spPr>
            <a:xfrm>
              <a:off x="6581160" y="4005360"/>
              <a:ext cx="144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43" idx="4"/>
              <a:endCxn id="147" idx="0"/>
            </p:cNvCxnSpPr>
            <p:nvPr/>
          </p:nvCxnSpPr>
          <p:spPr>
            <a:xfrm flipH="1">
              <a:off x="6580440" y="4005360"/>
              <a:ext cx="344520" cy="59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5" name=""/>
            <p:cNvSpPr/>
            <p:nvPr/>
          </p:nvSpPr>
          <p:spPr>
            <a:xfrm>
              <a:off x="5781960" y="1727640"/>
              <a:ext cx="570960" cy="49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95720" y="1826640"/>
              <a:ext cx="343080" cy="296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" name=""/>
            <p:cNvCxnSpPr>
              <a:stCxn id="188" idx="2"/>
              <a:endCxn id="137" idx="7"/>
            </p:cNvCxnSpPr>
            <p:nvPr/>
          </p:nvCxnSpPr>
          <p:spPr>
            <a:xfrm flipH="1">
              <a:off x="5861520" y="2916360"/>
              <a:ext cx="205560" cy="12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88" idx="2"/>
              <a:endCxn id="138" idx="1"/>
            </p:cNvCxnSpPr>
            <p:nvPr/>
          </p:nvCxnSpPr>
          <p:spPr>
            <a:xfrm>
              <a:off x="6067080" y="2916360"/>
              <a:ext cx="205560" cy="12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0" name=""/>
            <p:cNvSpPr/>
            <p:nvPr/>
          </p:nvSpPr>
          <p:spPr>
            <a:xfrm>
              <a:off x="5781960" y="5590800"/>
              <a:ext cx="571680" cy="49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95720" y="5690160"/>
              <a:ext cx="343800" cy="29880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2" name=""/>
            <p:cNvCxnSpPr>
              <a:stCxn id="145" idx="5"/>
              <a:endCxn id="193" idx="0"/>
            </p:cNvCxnSpPr>
            <p:nvPr/>
          </p:nvCxnSpPr>
          <p:spPr>
            <a:xfrm>
              <a:off x="5633640" y="4770000"/>
              <a:ext cx="434160" cy="12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44" idx="5"/>
              <a:endCxn id="193" idx="0"/>
            </p:cNvCxnSpPr>
            <p:nvPr/>
          </p:nvCxnSpPr>
          <p:spPr>
            <a:xfrm>
              <a:off x="5975640" y="4770000"/>
              <a:ext cx="91800" cy="12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>
              <a:stCxn id="148" idx="3"/>
              <a:endCxn id="193" idx="0"/>
            </p:cNvCxnSpPr>
            <p:nvPr/>
          </p:nvCxnSpPr>
          <p:spPr>
            <a:xfrm flipH="1">
              <a:off x="6066720" y="4769280"/>
              <a:ext cx="91080" cy="12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>
              <a:stCxn id="147" idx="3"/>
              <a:endCxn id="193" idx="0"/>
            </p:cNvCxnSpPr>
            <p:nvPr/>
          </p:nvCxnSpPr>
          <p:spPr>
            <a:xfrm flipH="1">
              <a:off x="6067080" y="4769280"/>
              <a:ext cx="434160" cy="12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7" name=""/>
            <p:cNvSpPr/>
            <p:nvPr/>
          </p:nvSpPr>
          <p:spPr>
            <a:xfrm>
              <a:off x="7381800" y="1727640"/>
              <a:ext cx="1143000" cy="3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nput im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81800" y="2916360"/>
              <a:ext cx="1143360" cy="3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nput no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81800" y="3708720"/>
              <a:ext cx="1143000" cy="39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Hidden no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81800" y="4501080"/>
              <a:ext cx="1143000" cy="39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Output no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81800" y="5690160"/>
              <a:ext cx="1143000" cy="3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Output im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67120" y="2420640"/>
              <a:ext cx="799560" cy="49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igen-face Coeffici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85" idx="2"/>
              <a:endCxn id="188" idx="0"/>
            </p:cNvCxnSpPr>
            <p:nvPr/>
          </p:nvCxnSpPr>
          <p:spPr>
            <a:xfrm>
              <a:off x="6067080" y="2222640"/>
              <a:ext cx="1080" cy="19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3" name=""/>
            <p:cNvSpPr/>
            <p:nvPr/>
          </p:nvSpPr>
          <p:spPr>
            <a:xfrm>
              <a:off x="5667120" y="4897440"/>
              <a:ext cx="799560" cy="49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igen-face Coeffici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3" name=""/>
            <p:cNvCxnSpPr>
              <a:stCxn id="193" idx="2"/>
              <a:endCxn id="190" idx="0"/>
            </p:cNvCxnSpPr>
            <p:nvPr/>
          </p:nvCxnSpPr>
          <p:spPr>
            <a:xfrm>
              <a:off x="6067080" y="5393160"/>
              <a:ext cx="1080" cy="19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4" name=""/>
            <p:cNvSpPr/>
            <p:nvPr/>
          </p:nvSpPr>
          <p:spPr>
            <a:xfrm>
              <a:off x="7381800" y="2420640"/>
              <a:ext cx="1143000" cy="3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nput vec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81800" y="4996800"/>
              <a:ext cx="1143000" cy="3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Output vecto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ging Visualization Modu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46526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: user image, selection of required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put: aging facial image compared with input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92000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Parameter Analysis</a:t>
            </a:r>
            <a:br>
              <a:rPr sz="3800"/>
            </a:br>
            <a:r>
              <a:rPr b="0" lang="zh-CN" sz="2800" spc="-1" strike="noStrike">
                <a:solidFill>
                  <a:srgbClr val="006633"/>
                </a:solidFill>
                <a:latin typeface="Garamond"/>
              </a:rPr>
              <a:t>Eigen-faces Evaluation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4797360"/>
            <a:ext cx="82296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More eigen-faces, less err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Error reduced slower as the number of eigen-faces grows larg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30% to 10%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error rate for image recognition, 5% to 10%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error rate for image esti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3196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Parameter Analysis</a:t>
            </a:r>
            <a:br>
              <a:rPr sz="3800"/>
            </a:br>
            <a:r>
              <a:rPr b="0" lang="zh-CN" sz="2800" spc="-1" strike="noStrike">
                <a:solidFill>
                  <a:srgbClr val="006633"/>
                </a:solidFill>
                <a:latin typeface="Garamond"/>
              </a:rPr>
              <a:t>Eigen-faces Evaluation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(Con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44640" y="1801800"/>
            <a:ext cx="1039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44640" y="1801800"/>
            <a:ext cx="1025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44640" y="1801800"/>
            <a:ext cx="1035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44640" y="1801800"/>
            <a:ext cx="10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44640" y="1801800"/>
            <a:ext cx="1039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44640" y="1801800"/>
            <a:ext cx="1025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44640" y="1801800"/>
            <a:ext cx="1035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44640" y="1801800"/>
            <a:ext cx="10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44640" y="1801800"/>
            <a:ext cx="1039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44640" y="1801800"/>
            <a:ext cx="1025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44640" y="1801800"/>
            <a:ext cx="1035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44640" y="1801800"/>
            <a:ext cx="102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44640" y="1801800"/>
            <a:ext cx="1039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44640" y="1801800"/>
            <a:ext cx="1025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44640" y="1801800"/>
            <a:ext cx="1035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03280" y="1557360"/>
          <a:ext cx="6408720" cy="4887720"/>
        </p:xfrm>
        <a:graphic>
          <a:graphicData uri="http://schemas.openxmlformats.org/drawingml/2006/table">
            <a:tbl>
              <a:tblPr/>
              <a:tblGrid>
                <a:gridCol w="1208160"/>
                <a:gridCol w="946080"/>
                <a:gridCol w="933480"/>
                <a:gridCol w="944640"/>
                <a:gridCol w="936720"/>
                <a:gridCol w="14396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of eigen-f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nstructed im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recogniz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of eigen-f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nstructed im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gnizable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of eigen-f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nstructed im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most ident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of eigen-f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onstructed im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635280" y="1989000"/>
            <a:ext cx="784440" cy="792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572000" y="1989000"/>
            <a:ext cx="784080" cy="79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5508720" y="1989000"/>
            <a:ext cx="782640" cy="792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2700360" y="3213000"/>
            <a:ext cx="790560" cy="774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3635280" y="3213000"/>
            <a:ext cx="792360" cy="790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4572000" y="3213000"/>
            <a:ext cx="777960" cy="792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5508720" y="3213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9"/>
          <a:stretch/>
        </p:blipFill>
        <p:spPr>
          <a:xfrm>
            <a:off x="2700360" y="4437000"/>
            <a:ext cx="792000" cy="7714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0"/>
          <a:stretch/>
        </p:blipFill>
        <p:spPr>
          <a:xfrm>
            <a:off x="3635280" y="4437000"/>
            <a:ext cx="792360" cy="7858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1"/>
          <a:stretch/>
        </p:blipFill>
        <p:spPr>
          <a:xfrm>
            <a:off x="4572000" y="4437000"/>
            <a:ext cx="762120" cy="792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"/>
          <a:stretch/>
        </p:blipFill>
        <p:spPr>
          <a:xfrm>
            <a:off x="5508720" y="4437000"/>
            <a:ext cx="792000" cy="7765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3"/>
          <a:stretch/>
        </p:blipFill>
        <p:spPr>
          <a:xfrm>
            <a:off x="2700360" y="5661000"/>
            <a:ext cx="792000" cy="785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4"/>
          <a:stretch/>
        </p:blipFill>
        <p:spPr>
          <a:xfrm>
            <a:off x="3635280" y="5661000"/>
            <a:ext cx="762120" cy="792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5"/>
          <a:stretch/>
        </p:blipFill>
        <p:spPr>
          <a:xfrm>
            <a:off x="4572000" y="5661000"/>
            <a:ext cx="792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arameter Analysis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Hidden Node Evaluation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4941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Speed of error reduction is slower and slow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Error meets minimum at 40 hidden nod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A proper number of hidden nodes    = generaliz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A too large number of hidden nodes = memoriz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195640" y="1449360"/>
            <a:ext cx="46814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Parameter Analysis</a:t>
            </a:r>
            <a:br>
              <a:rPr sz="3800"/>
            </a:br>
            <a:r>
              <a:rPr b="0" lang="zh-CN" sz="2800" spc="-1" strike="noStrike">
                <a:solidFill>
                  <a:srgbClr val="006633"/>
                </a:solidFill>
                <a:latin typeface="Garamond"/>
              </a:rPr>
              <a:t>Noise Evaluation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Able to tolerate noise when 25 eigen-face coefficients were distor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Up from 30 eigen-face, the deviation is distin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Deviation of the output face depends on the distortion of the facial features of the input ima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17640" y="1120680"/>
            <a:ext cx="1209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17640" y="1120680"/>
            <a:ext cx="122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17640" y="1120680"/>
            <a:ext cx="1217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17640" y="1120680"/>
            <a:ext cx="122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17640" y="1120680"/>
            <a:ext cx="1209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17640" y="1120680"/>
            <a:ext cx="122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17640" y="1120680"/>
            <a:ext cx="1217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17640" y="1120680"/>
            <a:ext cx="122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17640" y="1120680"/>
            <a:ext cx="1209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17640" y="1120680"/>
            <a:ext cx="122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17640" y="1120680"/>
            <a:ext cx="1217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17640" y="1120680"/>
            <a:ext cx="122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17640" y="1120680"/>
            <a:ext cx="1209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17640" y="1120680"/>
            <a:ext cx="122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17640" y="1120680"/>
            <a:ext cx="1217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17640" y="1120680"/>
            <a:ext cx="122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17640" y="1120680"/>
            <a:ext cx="1209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17640" y="1120680"/>
            <a:ext cx="122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17640" y="1120680"/>
            <a:ext cx="1217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17640" y="1120680"/>
            <a:ext cx="122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17640" y="1120680"/>
            <a:ext cx="1209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17640" y="1120680"/>
            <a:ext cx="122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17640" y="1120680"/>
            <a:ext cx="1217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17640" y="1120680"/>
            <a:ext cx="122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356000" y="1197000"/>
          <a:ext cx="4392720" cy="5448240"/>
        </p:xfrm>
        <a:graphic>
          <a:graphicData uri="http://schemas.openxmlformats.org/drawingml/2006/table">
            <a:tbl>
              <a:tblPr/>
              <a:tblGrid>
                <a:gridCol w="647640"/>
                <a:gridCol w="936720"/>
                <a:gridCol w="936720"/>
                <a:gridCol w="920880"/>
                <a:gridCol w="9507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-face 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 Imag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Imag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 Imag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Imag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gi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012000" y="1844640"/>
            <a:ext cx="790560" cy="792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6948360" y="1844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7885080" y="1844640"/>
            <a:ext cx="790560" cy="792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5076720" y="2637000"/>
            <a:ext cx="771480" cy="792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6012000" y="2637000"/>
            <a:ext cx="792000" cy="7905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6948360" y="2637000"/>
            <a:ext cx="792360" cy="7905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7885080" y="2637000"/>
            <a:ext cx="776160" cy="792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5076720" y="3500280"/>
            <a:ext cx="779400" cy="792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6012000" y="3500280"/>
            <a:ext cx="792000" cy="7718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1"/>
          <a:stretch/>
        </p:blipFill>
        <p:spPr>
          <a:xfrm>
            <a:off x="6948360" y="3500280"/>
            <a:ext cx="785880" cy="792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2"/>
          <a:stretch/>
        </p:blipFill>
        <p:spPr>
          <a:xfrm>
            <a:off x="7885080" y="3500280"/>
            <a:ext cx="784080" cy="7923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3"/>
          <a:stretch/>
        </p:blipFill>
        <p:spPr>
          <a:xfrm>
            <a:off x="5076720" y="429264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4"/>
          <a:stretch/>
        </p:blipFill>
        <p:spPr>
          <a:xfrm>
            <a:off x="6012000" y="4292640"/>
            <a:ext cx="777600" cy="792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948360" y="4292640"/>
          <a:ext cx="792360" cy="79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48360" y="4292640"/>
                    <a:ext cx="7923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2" name="" descr=""/>
          <p:cNvPicPr/>
          <p:nvPr/>
        </p:nvPicPr>
        <p:blipFill>
          <a:blip r:embed="rId17"/>
          <a:stretch/>
        </p:blipFill>
        <p:spPr>
          <a:xfrm>
            <a:off x="7885080" y="4292640"/>
            <a:ext cx="790560" cy="777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8"/>
          <a:stretch/>
        </p:blipFill>
        <p:spPr>
          <a:xfrm>
            <a:off x="5076720" y="5157720"/>
            <a:ext cx="784440" cy="792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9"/>
          <a:stretch/>
        </p:blipFill>
        <p:spPr>
          <a:xfrm>
            <a:off x="6012000" y="515772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0"/>
          <a:stretch/>
        </p:blipFill>
        <p:spPr>
          <a:xfrm>
            <a:off x="6948360" y="515772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1"/>
          <a:stretch/>
        </p:blipFill>
        <p:spPr>
          <a:xfrm>
            <a:off x="7885080" y="5157720"/>
            <a:ext cx="790560" cy="7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2"/>
          <a:stretch/>
        </p:blipFill>
        <p:spPr>
          <a:xfrm>
            <a:off x="5076720" y="5950080"/>
            <a:ext cx="679680" cy="6919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3"/>
          <a:stretch/>
        </p:blipFill>
        <p:spPr>
          <a:xfrm>
            <a:off x="6012000" y="5875200"/>
            <a:ext cx="792000" cy="7844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4"/>
          <a:stretch/>
        </p:blipFill>
        <p:spPr>
          <a:xfrm>
            <a:off x="6948360" y="5865840"/>
            <a:ext cx="797040" cy="8031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5"/>
          <a:stretch/>
        </p:blipFill>
        <p:spPr>
          <a:xfrm>
            <a:off x="7885080" y="5865840"/>
            <a:ext cx="789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arameter Analysis</a:t>
            </a:r>
            <a:br>
              <a:rPr sz="3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General Evaluation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ance of estimating female models was much poor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be beca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ales usually wear makeup when taking pi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ale’s facial features change much when they grow u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74720" y="211140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4720" y="2111400"/>
            <a:ext cx="108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74720" y="2111400"/>
            <a:ext cx="1090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4720" y="211140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74720" y="211140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74720" y="2111400"/>
            <a:ext cx="108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74720" y="2111400"/>
            <a:ext cx="1090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74720" y="211140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74720" y="211140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4720" y="2111400"/>
            <a:ext cx="108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74720" y="2111400"/>
            <a:ext cx="1090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74720" y="2111400"/>
            <a:ext cx="1108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74720" y="211140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4720" y="211140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4720" y="2111400"/>
            <a:ext cx="108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74720" y="2111400"/>
            <a:ext cx="1090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74720" y="2111400"/>
            <a:ext cx="1108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74720" y="211140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211640" y="1557360"/>
          <a:ext cx="4548240" cy="4176720"/>
        </p:xfrm>
        <a:graphic>
          <a:graphicData uri="http://schemas.openxmlformats.org/drawingml/2006/table">
            <a:tbl>
              <a:tblPr/>
              <a:tblGrid>
                <a:gridCol w="604800"/>
                <a:gridCol w="965160"/>
                <a:gridCol w="998640"/>
                <a:gridCol w="1014120"/>
                <a:gridCol w="965520"/>
              </a:tblGrid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 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ginal Input Im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by Training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by Training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ual Output Im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885080" y="227664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859280" y="2276640"/>
            <a:ext cx="863640" cy="863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4859280" y="31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4859280" y="4005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4859280" y="486900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877080" y="2276640"/>
          <a:ext cx="885960" cy="923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77080" y="2276640"/>
                    <a:ext cx="88596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877080" y="3141720"/>
          <a:ext cx="853920" cy="863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77080" y="3141720"/>
                    <a:ext cx="8539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5867280" y="4005360"/>
          <a:ext cx="863640" cy="86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867280" y="4005360"/>
                    <a:ext cx="863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5867280" y="4869000"/>
          <a:ext cx="865440" cy="865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867280" y="4869000"/>
                    <a:ext cx="8654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3" name="" descr=""/>
          <p:cNvPicPr/>
          <p:nvPr/>
        </p:nvPicPr>
        <p:blipFill>
          <a:blip r:embed="rId14"/>
          <a:stretch/>
        </p:blipFill>
        <p:spPr>
          <a:xfrm>
            <a:off x="7885080" y="3141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5"/>
          <a:stretch/>
        </p:blipFill>
        <p:spPr>
          <a:xfrm>
            <a:off x="7885080" y="4005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6"/>
          <a:stretch/>
        </p:blipFill>
        <p:spPr>
          <a:xfrm>
            <a:off x="7885080" y="4869000"/>
            <a:ext cx="86364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arameter Analysis</a:t>
            </a:r>
            <a:br>
              <a:rPr sz="3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Sample Evaluation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3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ces estimated by 5 training samples look similar to each oth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 training samples can differentiate each of the input fac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timation of testing samples with small distance to each other may follow the same transformation patter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8360" y="1967040"/>
            <a:ext cx="1052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8360" y="1967040"/>
            <a:ext cx="1134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38360" y="1967040"/>
            <a:ext cx="111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8360" y="1967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38360" y="1967040"/>
            <a:ext cx="110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38360" y="1967040"/>
            <a:ext cx="1052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8360" y="1967040"/>
            <a:ext cx="1134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8360" y="1967040"/>
            <a:ext cx="111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38360" y="1967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38360" y="1967040"/>
            <a:ext cx="110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38360" y="1967040"/>
            <a:ext cx="1052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8360" y="1967040"/>
            <a:ext cx="1134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8360" y="1967040"/>
            <a:ext cx="111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8360" y="1967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8360" y="1967040"/>
            <a:ext cx="110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8360" y="1967040"/>
            <a:ext cx="1052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8360" y="1967040"/>
            <a:ext cx="1134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8360" y="1967040"/>
            <a:ext cx="111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8360" y="1967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38360" y="1967040"/>
            <a:ext cx="110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8360" y="1967040"/>
            <a:ext cx="1052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38360" y="1967040"/>
            <a:ext cx="1134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8360" y="1967040"/>
            <a:ext cx="111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8360" y="1967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38360" y="1967040"/>
            <a:ext cx="110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3492360" y="1557360"/>
          <a:ext cx="5256000" cy="4608360"/>
        </p:xfrm>
        <a:graphic>
          <a:graphicData uri="http://schemas.openxmlformats.org/drawingml/2006/table">
            <a:tbl>
              <a:tblPr/>
              <a:tblGrid>
                <a:gridCol w="565200"/>
                <a:gridCol w="930240"/>
                <a:gridCol w="952560"/>
                <a:gridCol w="936360"/>
                <a:gridCol w="936720"/>
                <a:gridCol w="93492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 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ginal Input Im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by Training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by Training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by Training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ual Output Im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4140360" y="23493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5076720" y="2349360"/>
          <a:ext cx="784440" cy="7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2349360"/>
                    <a:ext cx="7844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012000" y="2349360"/>
          <a:ext cx="792000" cy="79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2000" y="2349360"/>
                    <a:ext cx="7920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6948360" y="2349360"/>
          <a:ext cx="784440" cy="792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48360" y="2349360"/>
                    <a:ext cx="7844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4" name="" descr=""/>
          <p:cNvPicPr/>
          <p:nvPr/>
        </p:nvPicPr>
        <p:blipFill>
          <a:blip r:embed="rId8"/>
          <a:stretch/>
        </p:blipFill>
        <p:spPr>
          <a:xfrm>
            <a:off x="7885080" y="234936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9"/>
          <a:stretch/>
        </p:blipFill>
        <p:spPr>
          <a:xfrm>
            <a:off x="4140360" y="306864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5076720" y="3068640"/>
          <a:ext cx="790560" cy="790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76720" y="3068640"/>
                    <a:ext cx="7905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6012000" y="3068640"/>
          <a:ext cx="784080" cy="792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12000" y="3068640"/>
                    <a:ext cx="784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6948360" y="3068640"/>
          <a:ext cx="792360" cy="776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948360" y="3068640"/>
                    <a:ext cx="79236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5" name="" descr=""/>
          <p:cNvPicPr/>
          <p:nvPr/>
        </p:nvPicPr>
        <p:blipFill>
          <a:blip r:embed="rId16"/>
          <a:stretch/>
        </p:blipFill>
        <p:spPr>
          <a:xfrm>
            <a:off x="7885080" y="306864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17"/>
          <a:stretch/>
        </p:blipFill>
        <p:spPr>
          <a:xfrm>
            <a:off x="4140360" y="38606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076720" y="3860640"/>
          <a:ext cx="790560" cy="782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076720" y="3860640"/>
                    <a:ext cx="7905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6012000" y="3860640"/>
          <a:ext cx="792000" cy="7844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12000" y="3860640"/>
                    <a:ext cx="79200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948360" y="3860640"/>
          <a:ext cx="792360" cy="7765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948360" y="3860640"/>
                    <a:ext cx="79236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6" name="" descr=""/>
          <p:cNvPicPr/>
          <p:nvPr/>
        </p:nvPicPr>
        <p:blipFill>
          <a:blip r:embed="rId24"/>
          <a:stretch/>
        </p:blipFill>
        <p:spPr>
          <a:xfrm>
            <a:off x="7885080" y="3860640"/>
            <a:ext cx="790560" cy="7891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5"/>
          <a:stretch/>
        </p:blipFill>
        <p:spPr>
          <a:xfrm>
            <a:off x="4140360" y="4581360"/>
            <a:ext cx="790560" cy="792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5076720" y="4581360"/>
          <a:ext cx="784440" cy="7923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76720" y="4581360"/>
                    <a:ext cx="7844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6012000" y="4581360"/>
          <a:ext cx="784080" cy="7923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012000" y="4581360"/>
                    <a:ext cx="7840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6948360" y="4581360"/>
          <a:ext cx="784440" cy="7923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6948360" y="4581360"/>
                    <a:ext cx="7844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7" name="" descr=""/>
          <p:cNvPicPr/>
          <p:nvPr/>
        </p:nvPicPr>
        <p:blipFill>
          <a:blip r:embed="rId32"/>
          <a:stretch/>
        </p:blipFill>
        <p:spPr>
          <a:xfrm>
            <a:off x="7885080" y="4581360"/>
            <a:ext cx="790560" cy="7909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3"/>
          <a:stretch/>
        </p:blipFill>
        <p:spPr>
          <a:xfrm>
            <a:off x="4140360" y="5373720"/>
            <a:ext cx="790560" cy="792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5076720" y="5373720"/>
          <a:ext cx="790560" cy="79056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5076720" y="5373720"/>
                    <a:ext cx="7905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6012000" y="5373720"/>
          <a:ext cx="792000" cy="79200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6012000" y="5373720"/>
                    <a:ext cx="792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6948360" y="5373720"/>
          <a:ext cx="792360" cy="79200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6948360" y="5373720"/>
                    <a:ext cx="7923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8" name="" descr=""/>
          <p:cNvPicPr/>
          <p:nvPr/>
        </p:nvPicPr>
        <p:blipFill>
          <a:blip r:embed="rId40"/>
          <a:stretch/>
        </p:blipFill>
        <p:spPr>
          <a:xfrm>
            <a:off x="7885080" y="5373720"/>
            <a:ext cx="7905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valuation of Aging Simulation Systems</a:t>
            </a:r>
            <a:br>
              <a:rPr sz="3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Child to Adult Evaluation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imilarity of facial features between estimated face and its desired face can be found subjectiv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Able to generalize different r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tandard input images result in better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03200" y="196704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303200" y="1967040"/>
            <a:ext cx="1135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03200" y="1967040"/>
            <a:ext cx="110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03200" y="196704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303200" y="1967040"/>
            <a:ext cx="1135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03200" y="1967040"/>
            <a:ext cx="110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03200" y="196704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303200" y="1967040"/>
            <a:ext cx="1135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303200" y="1967040"/>
            <a:ext cx="110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303200" y="196704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03200" y="1967040"/>
            <a:ext cx="1135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03200" y="1967040"/>
            <a:ext cx="110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303200" y="196704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03200" y="1967040"/>
            <a:ext cx="1135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303200" y="1967040"/>
            <a:ext cx="110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4643280" y="1557360"/>
          <a:ext cx="3932280" cy="4966920"/>
        </p:xfrm>
        <a:graphic>
          <a:graphicData uri="http://schemas.openxmlformats.org/drawingml/2006/table">
            <a:tbl>
              <a:tblPr/>
              <a:tblGrid>
                <a:gridCol w="639720"/>
                <a:gridCol w="1052640"/>
                <a:gridCol w="1135080"/>
                <a:gridCol w="1104840"/>
              </a:tblGrid>
              <a:tr h="8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 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ginal Input Im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by Training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ual Output Im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6443640" y="2349360"/>
          <a:ext cx="865080" cy="86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43640" y="2349360"/>
                    <a:ext cx="86508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7596360" y="234936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5364000" y="321300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6443640" y="3213000"/>
          <a:ext cx="85572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43640" y="3213000"/>
                    <a:ext cx="855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6" name="" descr=""/>
          <p:cNvPicPr/>
          <p:nvPr/>
        </p:nvPicPr>
        <p:blipFill>
          <a:blip r:embed="rId8"/>
          <a:stretch/>
        </p:blipFill>
        <p:spPr>
          <a:xfrm>
            <a:off x="7596360" y="3213000"/>
            <a:ext cx="861840" cy="8636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9"/>
          <a:stretch/>
        </p:blipFill>
        <p:spPr>
          <a:xfrm>
            <a:off x="5364000" y="40053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6443640" y="4005360"/>
          <a:ext cx="857160" cy="865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43640" y="4005360"/>
                    <a:ext cx="8571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" descr=""/>
          <p:cNvPicPr/>
          <p:nvPr/>
        </p:nvPicPr>
        <p:blipFill>
          <a:blip r:embed="rId12"/>
          <a:stretch/>
        </p:blipFill>
        <p:spPr>
          <a:xfrm>
            <a:off x="7596360" y="400536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3"/>
          <a:stretch/>
        </p:blipFill>
        <p:spPr>
          <a:xfrm>
            <a:off x="5364000" y="486900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6443640" y="4869000"/>
          <a:ext cx="865080" cy="865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443640" y="4869000"/>
                    <a:ext cx="86508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6" name="" descr=""/>
          <p:cNvPicPr/>
          <p:nvPr/>
        </p:nvPicPr>
        <p:blipFill>
          <a:blip r:embed="rId16"/>
          <a:stretch/>
        </p:blipFill>
        <p:spPr>
          <a:xfrm>
            <a:off x="7596360" y="4869000"/>
            <a:ext cx="863280" cy="8650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17"/>
          <a:stretch/>
        </p:blipFill>
        <p:spPr>
          <a:xfrm>
            <a:off x="5364000" y="566100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6443640" y="5661000"/>
          <a:ext cx="865080" cy="865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443640" y="5661000"/>
                    <a:ext cx="86508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1" name="" descr=""/>
          <p:cNvPicPr/>
          <p:nvPr/>
        </p:nvPicPr>
        <p:blipFill>
          <a:blip r:embed="rId20"/>
          <a:stretch/>
        </p:blipFill>
        <p:spPr>
          <a:xfrm>
            <a:off x="7596360" y="5661000"/>
            <a:ext cx="8618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valuation of Aging Simulation Systems </a:t>
            </a:r>
            <a:br>
              <a:rPr sz="3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Adult to Child Evaluation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1289160" y="1967040"/>
            <a:ext cx="110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89160" y="1967040"/>
            <a:ext cx="1146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289160" y="1967040"/>
            <a:ext cx="110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289160" y="1967040"/>
            <a:ext cx="110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289160" y="1967040"/>
            <a:ext cx="1146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289160" y="1967040"/>
            <a:ext cx="110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89160" y="1967040"/>
            <a:ext cx="110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89160" y="1967040"/>
            <a:ext cx="1146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289160" y="1967040"/>
            <a:ext cx="110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289160" y="1967040"/>
            <a:ext cx="110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89160" y="1967040"/>
            <a:ext cx="1146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289160" y="1967040"/>
            <a:ext cx="110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289160" y="1967040"/>
            <a:ext cx="110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289160" y="1967040"/>
            <a:ext cx="1146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289160" y="1967040"/>
            <a:ext cx="1104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4643280" y="1600200"/>
          <a:ext cx="3960720" cy="4924080"/>
        </p:xfrm>
        <a:graphic>
          <a:graphicData uri="http://schemas.openxmlformats.org/drawingml/2006/table">
            <a:tbl>
              <a:tblPr/>
              <a:tblGrid>
                <a:gridCol w="644400"/>
                <a:gridCol w="1060200"/>
                <a:gridCol w="1143360"/>
                <a:gridCol w="111276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 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ginal Input Im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by Training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ual Output Im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5435640" y="242100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6516720" y="2421000"/>
          <a:ext cx="792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720" y="2421000"/>
                    <a:ext cx="792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7667640" y="2421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5435640" y="328464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6516720" y="3284640"/>
          <a:ext cx="792000" cy="784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16720" y="3284640"/>
                    <a:ext cx="79200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8" name="" descr=""/>
          <p:cNvPicPr/>
          <p:nvPr/>
        </p:nvPicPr>
        <p:blipFill>
          <a:blip r:embed="rId8"/>
          <a:stretch/>
        </p:blipFill>
        <p:spPr>
          <a:xfrm>
            <a:off x="7667640" y="3284640"/>
            <a:ext cx="792000" cy="7905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9"/>
          <a:stretch/>
        </p:blipFill>
        <p:spPr>
          <a:xfrm>
            <a:off x="5435640" y="4076640"/>
            <a:ext cx="792000" cy="7905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6516720" y="4076640"/>
          <a:ext cx="776160" cy="792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16720" y="4076640"/>
                    <a:ext cx="776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3" name="" descr=""/>
          <p:cNvPicPr/>
          <p:nvPr/>
        </p:nvPicPr>
        <p:blipFill>
          <a:blip r:embed="rId12"/>
          <a:stretch/>
        </p:blipFill>
        <p:spPr>
          <a:xfrm>
            <a:off x="7667640" y="4076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3"/>
          <a:stretch/>
        </p:blipFill>
        <p:spPr>
          <a:xfrm>
            <a:off x="5435640" y="486900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516720" y="4869000"/>
          <a:ext cx="784080" cy="792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516720" y="4869000"/>
                    <a:ext cx="784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" descr=""/>
          <p:cNvPicPr/>
          <p:nvPr/>
        </p:nvPicPr>
        <p:blipFill>
          <a:blip r:embed="rId16"/>
          <a:stretch/>
        </p:blipFill>
        <p:spPr>
          <a:xfrm>
            <a:off x="7667640" y="4869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17"/>
          <a:stretch/>
        </p:blipFill>
        <p:spPr>
          <a:xfrm>
            <a:off x="5435640" y="573408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6516720" y="5734080"/>
          <a:ext cx="792000" cy="792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516720" y="5734080"/>
                    <a:ext cx="792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3" name="" descr=""/>
          <p:cNvPicPr/>
          <p:nvPr/>
        </p:nvPicPr>
        <p:blipFill>
          <a:blip r:embed="rId20"/>
          <a:stretch/>
        </p:blipFill>
        <p:spPr>
          <a:xfrm>
            <a:off x="7667640" y="573408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457200" y="1600200"/>
            <a:ext cx="3898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ilarity of the facial features between estimated face and its desired face can be found subjectiv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le to estimate the target 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tion &amp; Backg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Mod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age Preprocessing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age Transformation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ing Simulation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ing Visualization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meter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ion of Aging Simulation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valuation of Aging Simulation Systems </a:t>
            </a:r>
            <a:br>
              <a:rPr sz="3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Wrinkle Estimation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Able to predict a natural wrinkle im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Wrinkle estimation depends on the facial texture of different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Therefore, Training 2 and Training 3 are proved to be successfu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9720" y="2476440"/>
            <a:ext cx="13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09720" y="2476440"/>
            <a:ext cx="1377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09720" y="2476440"/>
            <a:ext cx="137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9720" y="2476440"/>
            <a:ext cx="136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09720" y="2476440"/>
            <a:ext cx="13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909720" y="2476440"/>
            <a:ext cx="1377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9720" y="2476440"/>
            <a:ext cx="1376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09720" y="2476440"/>
            <a:ext cx="136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780000" y="1628640"/>
          <a:ext cx="4895640" cy="3457440"/>
        </p:xfrm>
        <a:graphic>
          <a:graphicData uri="http://schemas.openxmlformats.org/drawingml/2006/table">
            <a:tbl>
              <a:tblPr/>
              <a:tblGrid>
                <a:gridCol w="1234800"/>
                <a:gridCol w="1224720"/>
                <a:gridCol w="1222920"/>
                <a:gridCol w="1213200"/>
              </a:tblGrid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ginal Input Im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by Training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by Training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by Training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3851280" y="2276640"/>
            <a:ext cx="1079640" cy="143964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1084320" cy="14396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1069920" cy="143964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524720" y="2276640"/>
            <a:ext cx="1079640" cy="143964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5"/>
          <a:stretch/>
        </p:blipFill>
        <p:spPr>
          <a:xfrm>
            <a:off x="3851280" y="3645000"/>
            <a:ext cx="1082520" cy="144144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6"/>
          <a:stretch/>
        </p:blipFill>
        <p:spPr>
          <a:xfrm>
            <a:off x="5076720" y="3645000"/>
            <a:ext cx="1076400" cy="14414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7"/>
          <a:stretch/>
        </p:blipFill>
        <p:spPr>
          <a:xfrm>
            <a:off x="6300720" y="3645000"/>
            <a:ext cx="1074960" cy="14414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8"/>
          <a:stretch/>
        </p:blipFill>
        <p:spPr>
          <a:xfrm>
            <a:off x="7524720" y="3645000"/>
            <a:ext cx="10764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valuation of Aging Simulation Systems </a:t>
            </a:r>
            <a:br>
              <a:rPr sz="3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Linear Kernel (Support Vector Regression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le to estimate normal aging images from unseen f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nsitive to the quality of both the training and the testing samp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314360" y="196704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314360" y="1967040"/>
            <a:ext cx="1073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14360" y="1967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314360" y="196704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314360" y="1967040"/>
            <a:ext cx="1073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314360" y="1967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314360" y="196704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314360" y="1967040"/>
            <a:ext cx="1073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314360" y="1967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314360" y="196704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314360" y="1967040"/>
            <a:ext cx="1073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14360" y="1967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14360" y="196704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314360" y="1967040"/>
            <a:ext cx="1073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314360" y="1967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5148360" y="1557360"/>
          <a:ext cx="3527280" cy="4825800"/>
        </p:xfrm>
        <a:graphic>
          <a:graphicData uri="http://schemas.openxmlformats.org/drawingml/2006/table">
            <a:tbl>
              <a:tblPr/>
              <a:tblGrid>
                <a:gridCol w="573120"/>
                <a:gridCol w="973080"/>
                <a:gridCol w="1012680"/>
                <a:gridCol w="968400"/>
              </a:tblGrid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 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ginal Input Im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by Training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ual Output Im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796000" y="2276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6804000" y="2276640"/>
            <a:ext cx="792360" cy="79056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7812000" y="2276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5796000" y="3068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5"/>
          <a:stretch/>
        </p:blipFill>
        <p:spPr>
          <a:xfrm>
            <a:off x="6804000" y="3068640"/>
            <a:ext cx="777960" cy="7920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6"/>
          <a:stretch/>
        </p:blipFill>
        <p:spPr>
          <a:xfrm>
            <a:off x="7812000" y="3068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7"/>
          <a:stretch/>
        </p:blipFill>
        <p:spPr>
          <a:xfrm>
            <a:off x="5796000" y="393372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8"/>
          <a:stretch/>
        </p:blipFill>
        <p:spPr>
          <a:xfrm>
            <a:off x="6804000" y="3933720"/>
            <a:ext cx="792360" cy="7905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9"/>
          <a:stretch/>
        </p:blipFill>
        <p:spPr>
          <a:xfrm>
            <a:off x="7812000" y="393372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10"/>
          <a:stretch/>
        </p:blipFill>
        <p:spPr>
          <a:xfrm>
            <a:off x="5796000" y="4724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11"/>
          <a:stretch/>
        </p:blipFill>
        <p:spPr>
          <a:xfrm>
            <a:off x="6804000" y="4724280"/>
            <a:ext cx="777960" cy="7923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12"/>
          <a:stretch/>
        </p:blipFill>
        <p:spPr>
          <a:xfrm>
            <a:off x="7812000" y="4724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13"/>
          <a:stretch/>
        </p:blipFill>
        <p:spPr>
          <a:xfrm>
            <a:off x="5796000" y="5589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14"/>
          <a:stretch/>
        </p:blipFill>
        <p:spPr>
          <a:xfrm>
            <a:off x="6804000" y="5589720"/>
            <a:ext cx="792360" cy="78408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15"/>
          <a:stretch/>
        </p:blipFill>
        <p:spPr>
          <a:xfrm>
            <a:off x="7812000" y="5589720"/>
            <a:ext cx="7923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valuation of Aging Simulation Systems </a:t>
            </a:r>
            <a:br>
              <a:rPr sz="3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RBF Kernel (Support Vector Regression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Performance of estimating aging images is not satisfac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First eigen-face coefficient of each test sample is almost the sa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Parameters need to be fine-tu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314360" y="196704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314360" y="1967040"/>
            <a:ext cx="1073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314360" y="1967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314360" y="196704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314360" y="1967040"/>
            <a:ext cx="1073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14360" y="1967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14360" y="196704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314360" y="1967040"/>
            <a:ext cx="1073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314360" y="1967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314360" y="196704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314360" y="1967040"/>
            <a:ext cx="1073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14360" y="1967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314360" y="1967040"/>
            <a:ext cx="1052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14360" y="1967040"/>
            <a:ext cx="1073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314360" y="1967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5219640" y="1557360"/>
          <a:ext cx="3455640" cy="4680000"/>
        </p:xfrm>
        <a:graphic>
          <a:graphicData uri="http://schemas.openxmlformats.org/drawingml/2006/table">
            <a:tbl>
              <a:tblPr/>
              <a:tblGrid>
                <a:gridCol w="548640"/>
                <a:gridCol w="936000"/>
                <a:gridCol w="955080"/>
                <a:gridCol w="101592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 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ginal Input Im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by Training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ual Output Im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5867280" y="314172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5867280" y="393372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5"/>
          <a:stretch/>
        </p:blipFill>
        <p:spPr>
          <a:xfrm>
            <a:off x="5867280" y="544500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6"/>
          <a:stretch/>
        </p:blipFill>
        <p:spPr>
          <a:xfrm>
            <a:off x="6804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7"/>
          <a:stretch/>
        </p:blipFill>
        <p:spPr>
          <a:xfrm>
            <a:off x="6804000" y="3141720"/>
            <a:ext cx="792360" cy="7905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8"/>
          <a:stretch/>
        </p:blipFill>
        <p:spPr>
          <a:xfrm>
            <a:off x="6804000" y="3933720"/>
            <a:ext cx="792360" cy="79056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9"/>
          <a:stretch/>
        </p:blipFill>
        <p:spPr>
          <a:xfrm>
            <a:off x="6804000" y="4724280"/>
            <a:ext cx="792360" cy="78444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0"/>
          <a:stretch/>
        </p:blipFill>
        <p:spPr>
          <a:xfrm>
            <a:off x="6804000" y="5445000"/>
            <a:ext cx="792360" cy="7826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11"/>
          <a:stretch/>
        </p:blipFill>
        <p:spPr>
          <a:xfrm>
            <a:off x="774072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12"/>
          <a:stretch/>
        </p:blipFill>
        <p:spPr>
          <a:xfrm>
            <a:off x="7740720" y="3141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13"/>
          <a:stretch/>
        </p:blipFill>
        <p:spPr>
          <a:xfrm>
            <a:off x="7740720" y="3933720"/>
            <a:ext cx="790560" cy="79236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14"/>
          <a:stretch/>
        </p:blipFill>
        <p:spPr>
          <a:xfrm>
            <a:off x="7740720" y="4653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15"/>
          <a:stretch/>
        </p:blipFill>
        <p:spPr>
          <a:xfrm>
            <a:off x="7740720" y="544500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lu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Neural network is able to predict natural aging face based on the facial features of an unseen individu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Neural network is able to generalize and predict the correct race and ag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Neural network finds application in both facial aging and wrinkle ag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The performa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depends on a lot of paramete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Neural network system favors standard testing samples and produces better results on them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nk you for listen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 and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duction &amp; Backgrou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gic paint face is a facial aging simulation system that predicts a facial look during growth and aging pro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pplicatio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 of facial appea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f face images in identification docu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ion on characters’ aging fa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 recognition robust to aging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c age verific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duction &amp; Background (Con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Resear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stical Face Mode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rinkle Extrac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blem to be solved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not study from new s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redict from one age scope to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 of wrinkle rather tha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ural Network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cial aging is an intelligent process which can be better performed by human brains rather than symbolic proces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ystem Overvie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050920" y="1268280"/>
            <a:ext cx="5029200" cy="4942080"/>
            <a:chOff x="2050920" y="1268280"/>
            <a:chExt cx="5029200" cy="4942080"/>
          </a:xfrm>
        </p:grpSpPr>
        <p:sp>
          <p:nvSpPr>
            <p:cNvPr id="97" name=""/>
            <p:cNvSpPr/>
            <p:nvPr/>
          </p:nvSpPr>
          <p:spPr>
            <a:xfrm>
              <a:off x="3994200" y="3701880"/>
              <a:ext cx="13698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igen-faces of Adult Im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9920" y="2743200"/>
              <a:ext cx="159876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ging Simulation Modu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50920" y="1268280"/>
              <a:ext cx="5029200" cy="117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 Preprocessing Modu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"/>
            <p:cNvCxnSpPr>
              <a:stCxn id="101" idx="3"/>
              <a:endCxn id="102" idx="1"/>
            </p:cNvCxnSpPr>
            <p:nvPr/>
          </p:nvCxnSpPr>
          <p:spPr>
            <a:xfrm>
              <a:off x="3192120" y="1933200"/>
              <a:ext cx="802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5823000" y="1488960"/>
              <a:ext cx="1030320" cy="739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79920" y="4660920"/>
              <a:ext cx="1600200" cy="15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ging Visualization Modu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08520" y="5326200"/>
              <a:ext cx="102888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nerate Aging I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94000" y="5694480"/>
              <a:ext cx="91260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51320" y="4219560"/>
              <a:ext cx="912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onverged Networ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27280" y="5229360"/>
              <a:ext cx="1800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1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ser im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ser sele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65600" y="5842080"/>
              <a:ext cx="11430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ging Im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94200" y="1711440"/>
              <a:ext cx="1028520" cy="442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eprocess I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79520" y="1488960"/>
              <a:ext cx="912960" cy="887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age 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22720" y="1933560"/>
              <a:ext cx="80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08520" y="3186000"/>
              <a:ext cx="1028880" cy="736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in Neural Network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0920" y="2965320"/>
              <a:ext cx="159876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 Transformation Modu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51200" y="2448000"/>
              <a:ext cx="1440" cy="51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93920" y="2522520"/>
              <a:ext cx="114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reprocessed Im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94000" y="3701880"/>
              <a:ext cx="1028520" cy="736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Convert Image into eigen-fa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651120" y="3481560"/>
              <a:ext cx="182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5640" y="2997360"/>
              <a:ext cx="137160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igen-faces of Youngster Im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651120" y="3701520"/>
              <a:ext cx="182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80200" y="4145040"/>
              <a:ext cx="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51120" y="4955760"/>
              <a:ext cx="182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79720" y="4513320"/>
              <a:ext cx="1371600" cy="36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igen-faces of Youngster Im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851200" y="5250960"/>
              <a:ext cx="144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308400" y="5842080"/>
              <a:ext cx="21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age Preprocessing Modu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and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rontal, full-face, plain expressive image with concolorous 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ace Databa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55 image pai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128*128 pix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male and fema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white and bl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Wrinkle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70 image pai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64*32 pix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male and fem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white and blac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419640" y="2349360"/>
            <a:ext cx="50418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age Transformation Modu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Problem: R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aw pixels are too huge to be fed into the neural network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Eigen-faces based on P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Eigen-vectors derived from principal component analysis but used to represent face images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o transform the M pixels of a face image into N (number of images in database) eigen-face imag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age Transformation Module (Con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Each human face can be divided into N eigen-faces with different propor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Each eigen-face represents a certain feature in human fa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Eigen-face with higher weight means it contributes more in the original fa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Compression can be done by ignoring the less weighted eigen-fac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age Transformation Module (Con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583236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17:13:20Z</dcterms:created>
  <dc:creator>yuki</dc:creator>
  <dc:description/>
  <dc:language>en-US</dc:language>
  <cp:lastModifiedBy>yuki</cp:lastModifiedBy>
  <dcterms:modified xsi:type="dcterms:W3CDTF">2007-05-21T03:51:05Z</dcterms:modified>
  <cp:revision>10</cp:revision>
  <dc:subject/>
  <dc:title>Final Year Project Presentation --- Magic Paint Face</dc:title>
</cp:coreProperties>
</file>