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750-32D0-459E-B51C-037F9EDE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76C-38C5-43D2-90B5-B2D6887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7B6-EE46-43A5-B0AC-08C4696B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011-8E5E-404D-B7D2-09849651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706A-CC13-4CEB-8865-F4141926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233A-8801-4E7E-86EE-1F3F4A7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EE16-A0BE-4F10-9A5B-CF03D2E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DE83-5F33-426C-9207-705B9D39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730-3C1C-4752-B6AA-CDA6EE67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DCE6-0323-4414-A899-494A59B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1392-6A3F-484D-9A77-B2A7B561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637-A0F3-4B71-ACCC-94A7224F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DB3-A176-4FA9-9243-11A95059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540A-B2C4-4BCF-BCCB-5168DD53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1621-A6A1-4EE2-86C5-AD7F85B5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D858-045E-4D6B-B476-61EA1FB9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172-F888-4254-9A1F-2B2C451E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A46-85E6-4DF8-A607-77A2FB9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C25-309F-411E-9242-DA25D97A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A82-DBD8-4F27-9104-440AD21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9D7-1823-4D30-AC6F-94D33D2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034-04EF-4F93-BE09-C16970D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552-9C27-469A-BFE6-4C5544A9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4BB-6156-4375-87B6-4FB23851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31B-68B7-499A-8449-A4FD588FD69B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59F7-F513-4913-A038-5EAB2667D05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2005/2006 Placement Milestone Prese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7386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  <a:ea typeface="新細明體"/>
              </a:rPr>
              <a:t>Mobile-Gamer Limi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  <a:ea typeface="新細明體"/>
              </a:rPr>
              <a:t>Li Deqing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  <a:ea typeface="新細明體"/>
              </a:rPr>
              <a:t>Internet and Multimedia Technology, year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EN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Thank You For Listening!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Company Introducto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Mobile Gamer Limited is a developer of interactive entertainment and infotainment software for wireless devic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eature of Product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Updated &amp; Creati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Organization Chart 2"/>
          <p:cNvGrpSpPr/>
          <p:nvPr/>
        </p:nvGrpSpPr>
        <p:grpSpPr>
          <a:xfrm>
            <a:off x="1676520" y="4723920"/>
            <a:ext cx="2361600" cy="1143000"/>
            <a:chOff x="1676520" y="4723920"/>
            <a:chExt cx="2361600" cy="114300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3039840" y="5021640"/>
              <a:ext cx="271440" cy="636480"/>
            </a:xfrm>
            <a:prstGeom prst="bentConnector3">
              <a:avLst>
                <a:gd name="adj1" fmla="val 49402"/>
              </a:avLst>
            </a:prstGeom>
            <a:ln w="28440">
              <a:solidFill>
                <a:srgbClr val="402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2404080" y="5022360"/>
              <a:ext cx="271440" cy="635400"/>
            </a:xfrm>
            <a:prstGeom prst="bentConnector3">
              <a:avLst>
                <a:gd name="adj1" fmla="val 49402"/>
              </a:avLst>
            </a:prstGeom>
            <a:ln w="28440">
              <a:solidFill>
                <a:srgbClr val="402000"/>
              </a:solidFill>
              <a:miter/>
            </a:ln>
          </p:spPr>
        </p:cxnSp>
        <p:sp>
          <p:nvSpPr>
            <p:cNvPr id="96" name="_s1030"/>
            <p:cNvSpPr/>
            <p:nvPr/>
          </p:nvSpPr>
          <p:spPr>
            <a:xfrm>
              <a:off x="2312280" y="4813560"/>
              <a:ext cx="1090080" cy="38988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ject manag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_s1031"/>
            <p:cNvSpPr/>
            <p:nvPr/>
          </p:nvSpPr>
          <p:spPr>
            <a:xfrm>
              <a:off x="1676520" y="5477040"/>
              <a:ext cx="1090080" cy="38988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gramm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2948040" y="5477040"/>
              <a:ext cx="1090080" cy="38988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gramm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cxnSp>
          <p:nvCxnSpPr>
            <p:cNvPr id="99" name="AutoShape 9"/>
            <p:cNvCxnSpPr>
              <a:stCxn id="96" idx="0"/>
            </p:cNvCxnSpPr>
            <p:nvPr/>
          </p:nvCxnSpPr>
          <p:spPr>
            <a:xfrm flipH="1" flipV="1" rot="5400000">
              <a:off x="3109680" y="4471560"/>
              <a:ext cx="90000" cy="594720"/>
            </a:xfrm>
            <a:prstGeom prst="bentConnector2">
              <a:avLst/>
            </a:prstGeom>
            <a:ln w="28440">
              <a:solidFill>
                <a:srgbClr val="402000"/>
              </a:solidFill>
              <a:miter/>
            </a:ln>
          </p:spPr>
        </p:cxn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Company Struct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8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ormerly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2 business managers, 2 project leaders,  2 programmers, 1 graph design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Later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" name="Content Placeholder 47115"/>
          <p:cNvGrpSpPr/>
          <p:nvPr/>
        </p:nvGrpSpPr>
        <p:grpSpPr>
          <a:xfrm>
            <a:off x="3429000" y="3813120"/>
            <a:ext cx="2719080" cy="1068120"/>
            <a:chOff x="3429000" y="3813120"/>
            <a:chExt cx="2719080" cy="1068120"/>
          </a:xfrm>
        </p:grpSpPr>
        <p:cxnSp>
          <p:nvCxnSpPr>
            <p:cNvPr id="103" name="_s1036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084280" y="3943800"/>
              <a:ext cx="216000" cy="80784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402000"/>
              </a:solidFill>
              <a:miter/>
            </a:ln>
          </p:spPr>
        </p:cxnSp>
        <p:cxnSp>
          <p:nvCxnSpPr>
            <p:cNvPr id="106" name="_s1037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4278240" y="3945240"/>
              <a:ext cx="216000" cy="8056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402000"/>
              </a:solidFill>
              <a:miter/>
            </a:ln>
          </p:spPr>
        </p:cxnSp>
        <p:sp>
          <p:nvSpPr>
            <p:cNvPr id="105" name="_s1038"/>
            <p:cNvSpPr/>
            <p:nvPr/>
          </p:nvSpPr>
          <p:spPr>
            <a:xfrm>
              <a:off x="4235040" y="3813120"/>
              <a:ext cx="1107000" cy="427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Business manager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_s1039"/>
            <p:cNvSpPr/>
            <p:nvPr/>
          </p:nvSpPr>
          <p:spPr>
            <a:xfrm>
              <a:off x="3429000" y="4453920"/>
              <a:ext cx="1107000" cy="427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Graph Designer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_s1040"/>
            <p:cNvSpPr/>
            <p:nvPr/>
          </p:nvSpPr>
          <p:spPr>
            <a:xfrm>
              <a:off x="5041080" y="4453920"/>
              <a:ext cx="1107000" cy="427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Graph Designer</a:t>
              </a:r>
              <a:endParaRPr b="0" lang="en-US" sz="1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8" name="Content Placeholder 47122"/>
          <p:cNvGrpSpPr/>
          <p:nvPr/>
        </p:nvGrpSpPr>
        <p:grpSpPr>
          <a:xfrm>
            <a:off x="5548320" y="4736520"/>
            <a:ext cx="2392200" cy="1063800"/>
            <a:chOff x="5548320" y="4736520"/>
            <a:chExt cx="2392200" cy="1063800"/>
          </a:xfrm>
        </p:grpSpPr>
        <p:cxnSp>
          <p:nvCxnSpPr>
            <p:cNvPr id="109" name="_s1043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6935760" y="4973040"/>
              <a:ext cx="262080" cy="645480"/>
            </a:xfrm>
            <a:prstGeom prst="bentConnector3">
              <a:avLst>
                <a:gd name="adj1" fmla="val 35763"/>
              </a:avLst>
            </a:prstGeom>
            <a:ln w="28440">
              <a:solidFill>
                <a:srgbClr val="402000"/>
              </a:solidFill>
              <a:miter/>
            </a:ln>
          </p:spPr>
        </p:cxnSp>
        <p:cxnSp>
          <p:nvCxnSpPr>
            <p:cNvPr id="112" name="_s1044"/>
            <p:cNvCxnSpPr>
              <a:stCxn id="113" idx="0"/>
              <a:endCxn id="111" idx="2"/>
            </p:cNvCxnSpPr>
            <p:nvPr/>
          </p:nvCxnSpPr>
          <p:spPr>
            <a:xfrm flipH="1" flipV="1" rot="5400000">
              <a:off x="6291720" y="4974120"/>
              <a:ext cx="262080" cy="643320"/>
            </a:xfrm>
            <a:prstGeom prst="bentConnector3">
              <a:avLst>
                <a:gd name="adj1" fmla="val 35763"/>
              </a:avLst>
            </a:prstGeom>
            <a:ln w="28440">
              <a:solidFill>
                <a:srgbClr val="402000"/>
              </a:solidFill>
              <a:miter/>
            </a:ln>
          </p:spPr>
        </p:cxnSp>
        <p:sp>
          <p:nvSpPr>
            <p:cNvPr id="111" name="_s1045"/>
            <p:cNvSpPr/>
            <p:nvPr/>
          </p:nvSpPr>
          <p:spPr>
            <a:xfrm>
              <a:off x="6192360" y="4791600"/>
              <a:ext cx="1104120" cy="373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ject manag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_s1046"/>
            <p:cNvSpPr/>
            <p:nvPr/>
          </p:nvSpPr>
          <p:spPr>
            <a:xfrm>
              <a:off x="5548320" y="5427000"/>
              <a:ext cx="1104120" cy="373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gramm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_s1047"/>
            <p:cNvSpPr/>
            <p:nvPr/>
          </p:nvSpPr>
          <p:spPr>
            <a:xfrm>
              <a:off x="6836400" y="5427000"/>
              <a:ext cx="1104120" cy="373320"/>
            </a:xfrm>
            <a:prstGeom prst="roundRect">
              <a:avLst>
                <a:gd name="adj" fmla="val 16667"/>
              </a:avLst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grammer</a:t>
              </a:r>
              <a:endParaRPr b="0" lang="en-US" sz="9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cxnSp>
          <p:nvCxnSpPr>
            <p:cNvPr id="114" name="AutoShape 26"/>
            <p:cNvCxnSpPr>
              <a:stCxn id="111" idx="0"/>
            </p:cNvCxnSpPr>
            <p:nvPr/>
          </p:nvCxnSpPr>
          <p:spPr>
            <a:xfrm flipV="1" rot="16200000">
              <a:off x="6417360" y="4464720"/>
              <a:ext cx="55080" cy="598680"/>
            </a:xfrm>
            <a:prstGeom prst="bentConnector2">
              <a:avLst/>
            </a:prstGeom>
            <a:ln w="28440">
              <a:solidFill>
                <a:srgbClr val="402000"/>
              </a:solidFill>
              <a:miter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Time L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1week &amp; half                  2 weeks                                                                                 4 week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1.program alpha versio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3.deploy for all devic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2.modify &amp; beta ver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90720" y="1981080"/>
            <a:ext cx="7543800" cy="1526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724280" y="21337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505320" y="2133720"/>
            <a:ext cx="0" cy="152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My wor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irst day: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tudy, read existing codes, setup computer, study program structure and librar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irst Project: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get familiar with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program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Journey 2 West (chest game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4" descr="j2west_1"/>
          <p:cNvPicPr/>
          <p:nvPr/>
        </p:nvPicPr>
        <p:blipFill>
          <a:blip r:embed="rId1"/>
          <a:stretch/>
        </p:blipFill>
        <p:spPr>
          <a:xfrm>
            <a:off x="4191120" y="4114800"/>
            <a:ext cx="1487520" cy="1676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2west_2"/>
          <p:cNvPicPr/>
          <p:nvPr/>
        </p:nvPicPr>
        <p:blipFill>
          <a:blip r:embed="rId2"/>
          <a:stretch/>
        </p:blipFill>
        <p:spPr>
          <a:xfrm>
            <a:off x="5715000" y="4114800"/>
            <a:ext cx="1414440" cy="1695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2west_3"/>
          <p:cNvPicPr/>
          <p:nvPr/>
        </p:nvPicPr>
        <p:blipFill>
          <a:blip r:embed="rId3"/>
          <a:stretch/>
        </p:blipFill>
        <p:spPr>
          <a:xfrm>
            <a:off x="7162920" y="4114800"/>
            <a:ext cx="14634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My work (con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econd Project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Deploy games fo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other compan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Third Projec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work on game engi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IQ quiz (quiz game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Picture 4" descr="iqquiz"/>
          <p:cNvPicPr/>
          <p:nvPr/>
        </p:nvPicPr>
        <p:blipFill>
          <a:blip r:embed="rId1"/>
          <a:stretch/>
        </p:blipFill>
        <p:spPr>
          <a:xfrm>
            <a:off x="4267080" y="41911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attleship_2"/>
          <p:cNvPicPr/>
          <p:nvPr/>
        </p:nvPicPr>
        <p:blipFill>
          <a:blip r:embed="rId2"/>
          <a:stretch/>
        </p:blipFill>
        <p:spPr>
          <a:xfrm>
            <a:off x="6477120" y="1676520"/>
            <a:ext cx="135864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micromachine_2"/>
          <p:cNvPicPr/>
          <p:nvPr/>
        </p:nvPicPr>
        <p:blipFill>
          <a:blip r:embed="rId3"/>
          <a:stretch/>
        </p:blipFill>
        <p:spPr>
          <a:xfrm>
            <a:off x="5181480" y="16765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onopoly_2"/>
          <p:cNvPicPr/>
          <p:nvPr/>
        </p:nvPicPr>
        <p:blipFill>
          <a:blip r:embed="rId4"/>
          <a:stretch/>
        </p:blipFill>
        <p:spPr>
          <a:xfrm>
            <a:off x="3886200" y="1676520"/>
            <a:ext cx="132732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superbreakout_2"/>
          <p:cNvPicPr/>
          <p:nvPr/>
        </p:nvPicPr>
        <p:blipFill>
          <a:blip r:embed="rId5"/>
          <a:stretch/>
        </p:blipFill>
        <p:spPr>
          <a:xfrm>
            <a:off x="7467480" y="28195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vrally_3"/>
          <p:cNvPicPr/>
          <p:nvPr/>
        </p:nvPicPr>
        <p:blipFill>
          <a:blip r:embed="rId6"/>
          <a:stretch/>
        </p:blipFill>
        <p:spPr>
          <a:xfrm>
            <a:off x="6172200" y="2819520"/>
            <a:ext cx="1314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My work (con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ourth Projec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work 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network progr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deploy Kungfu Majong for mainland and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taiwan vers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Fifth Project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work on game engi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&amp; computer A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jelly puzzle (puzzle game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6" name="Picture 4" descr="online"/>
          <p:cNvPicPr/>
          <p:nvPr/>
        </p:nvPicPr>
        <p:blipFill>
          <a:blip r:embed="rId1"/>
          <a:stretch/>
        </p:blipFill>
        <p:spPr>
          <a:xfrm>
            <a:off x="4114800" y="17524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tory2"/>
          <p:cNvPicPr/>
          <p:nvPr/>
        </p:nvPicPr>
        <p:blipFill>
          <a:blip r:embed="rId2"/>
          <a:stretch/>
        </p:blipFill>
        <p:spPr>
          <a:xfrm>
            <a:off x="7162920" y="1752480"/>
            <a:ext cx="1288800" cy="1524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KFMJ_13"/>
          <p:cNvPicPr/>
          <p:nvPr/>
        </p:nvPicPr>
        <p:blipFill>
          <a:blip r:embed="rId3"/>
          <a:stretch/>
        </p:blipFill>
        <p:spPr>
          <a:xfrm>
            <a:off x="5715000" y="1752480"/>
            <a:ext cx="1289160" cy="1524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ani"/>
          <p:cNvPicPr/>
          <p:nvPr/>
        </p:nvPicPr>
        <p:blipFill>
          <a:blip r:embed="rId4"/>
          <a:stretch/>
        </p:blipFill>
        <p:spPr>
          <a:xfrm>
            <a:off x="4343400" y="411480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My work (con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ixth Project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work on the whole ga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udoku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eventh Project (now)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study Peer2Peer network progra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  <a:ea typeface="新細明體"/>
              </a:rPr>
              <a:t>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2" name="Picture 4" descr="sudoku_1"/>
          <p:cNvPicPr/>
          <p:nvPr/>
        </p:nvPicPr>
        <p:blipFill>
          <a:blip r:embed="rId1"/>
          <a:stretch/>
        </p:blipFill>
        <p:spPr>
          <a:xfrm>
            <a:off x="4191120" y="1905120"/>
            <a:ext cx="146844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udoku_2"/>
          <p:cNvPicPr/>
          <p:nvPr/>
        </p:nvPicPr>
        <p:blipFill>
          <a:blip r:embed="rId2"/>
          <a:stretch/>
        </p:blipFill>
        <p:spPr>
          <a:xfrm>
            <a:off x="7062840" y="19051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udoku_3"/>
          <p:cNvPicPr/>
          <p:nvPr/>
        </p:nvPicPr>
        <p:blipFill>
          <a:blip r:embed="rId3"/>
          <a:stretch/>
        </p:blipFill>
        <p:spPr>
          <a:xfrm>
            <a:off x="5610240" y="1905120"/>
            <a:ext cx="1450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新細明體"/>
              </a:rPr>
              <a:t>What I have leant</a:t>
            </a:r>
            <a:r>
              <a:rPr b="0" lang="en-US" sz="4400" spc="-1" strike="noStrike">
                <a:solidFill>
                  <a:srgbClr val="996633"/>
                </a:solidFill>
                <a:latin typeface="Arial Black"/>
                <a:ea typeface="新細明體"/>
              </a:rPr>
              <a:t>…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46" name="Content Placeholder 53250"/>
          <p:cNvGrpSpPr/>
          <p:nvPr/>
        </p:nvGrpSpPr>
        <p:grpSpPr>
          <a:xfrm>
            <a:off x="1202040" y="1845720"/>
            <a:ext cx="6969600" cy="4352760"/>
            <a:chOff x="1202040" y="1845720"/>
            <a:chExt cx="6969600" cy="4352760"/>
          </a:xfrm>
        </p:grpSpPr>
        <p:sp>
          <p:nvSpPr>
            <p:cNvPr id="147" name="_s2052"/>
            <p:cNvSpPr/>
            <p:nvPr/>
          </p:nvSpPr>
          <p:spPr>
            <a:xfrm flipH="1" flipV="1">
              <a:off x="2964600" y="3828240"/>
              <a:ext cx="860040" cy="1796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_s2053"/>
            <p:cNvSpPr/>
            <p:nvPr/>
          </p:nvSpPr>
          <p:spPr>
            <a:xfrm>
              <a:off x="1202040" y="3058200"/>
              <a:ext cx="1809720" cy="117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Software Engineer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_s2054"/>
            <p:cNvSpPr/>
            <p:nvPr/>
          </p:nvSpPr>
          <p:spPr>
            <a:xfrm flipH="1">
              <a:off x="3623760" y="4664160"/>
              <a:ext cx="528840" cy="4748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_s2055"/>
            <p:cNvSpPr/>
            <p:nvPr/>
          </p:nvSpPr>
          <p:spPr>
            <a:xfrm>
              <a:off x="2183760" y="5024160"/>
              <a:ext cx="1809720" cy="1172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Career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_s2056"/>
            <p:cNvSpPr/>
            <p:nvPr/>
          </p:nvSpPr>
          <p:spPr>
            <a:xfrm>
              <a:off x="5218200" y="4664160"/>
              <a:ext cx="532440" cy="4730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_s2057"/>
            <p:cNvSpPr/>
            <p:nvPr/>
          </p:nvSpPr>
          <p:spPr>
            <a:xfrm>
              <a:off x="5374440" y="5025960"/>
              <a:ext cx="1809720" cy="117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Corporation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_s2058"/>
            <p:cNvSpPr/>
            <p:nvPr/>
          </p:nvSpPr>
          <p:spPr>
            <a:xfrm flipV="1">
              <a:off x="5546160" y="3826800"/>
              <a:ext cx="860040" cy="18144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6361920" y="3060360"/>
              <a:ext cx="1809720" cy="1172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Communication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_s2060"/>
            <p:cNvSpPr/>
            <p:nvPr/>
          </p:nvSpPr>
          <p:spPr>
            <a:xfrm flipV="1">
              <a:off x="4685760" y="3018240"/>
              <a:ext cx="0" cy="586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_s2061"/>
            <p:cNvSpPr/>
            <p:nvPr/>
          </p:nvSpPr>
          <p:spPr>
            <a:xfrm>
              <a:off x="3781080" y="1845720"/>
              <a:ext cx="1809000" cy="1172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Programming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_s2062"/>
            <p:cNvSpPr/>
            <p:nvPr/>
          </p:nvSpPr>
          <p:spPr>
            <a:xfrm>
              <a:off x="3781080" y="3604320"/>
              <a:ext cx="1809000" cy="1172520"/>
            </a:xfrm>
            <a:prstGeom prst="ellipse">
              <a:avLst/>
            </a:prstGeom>
            <a:solidFill>
              <a:srgbClr val="eca07a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2000"/>
                  </a:solidFill>
                  <a:latin typeface="Arial"/>
                  <a:ea typeface="新細明體"/>
                </a:rPr>
                <a:t>What I have learnt…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09:36:35Z</dcterms:created>
  <dc:creator>YUKI'S PC</dc:creator>
  <dc:description/>
  <cp:keywords/>
  <dc:language>en-US</dc:language>
  <cp:lastModifiedBy>Yuki</cp:lastModifiedBy>
  <dcterms:modified xsi:type="dcterms:W3CDTF">2013-01-30T23:09:44Z</dcterms:modified>
  <cp:revision>15</cp:revision>
  <dc:subject/>
  <dc:title>2005/2006 Placeme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72052</vt:lpwstr>
  </property>
</Properties>
</file>